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8.wmf" ContentType="image/x-wmf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9904-2F10-4A3D-8269-DBE30B09A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15D1-B573-49F6-82AF-FF7B03BA6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5EEE-8051-4F34-89E7-A53DDED31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3025-8261-42FA-B86D-8C044C8DFB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6D9B-3552-4C64-A359-E0D74B2F95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0209-2FAA-4C72-8EDD-C5158E406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7261-2DBC-4013-82C8-EC49E3B1E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D3E0-BD60-486F-B08D-F8F740287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7F90-8EA8-42A7-8FCB-AF49BA536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DEBB-120F-41F0-82D8-E342A38E6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A290-24F9-4365-B900-3D3AB030A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24CE-7BA6-448D-A709-9E08F0F74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logo_progen"/>
          <p:cNvPicPr/>
          <p:nvPr/>
        </p:nvPicPr>
        <p:blipFill>
          <a:blip r:embed="rId2"/>
          <a:srcRect l="9371" t="12786" r="87553" b="0"/>
          <a:stretch/>
        </p:blipFill>
        <p:spPr>
          <a:xfrm>
            <a:off x="1619280" y="6184800"/>
            <a:ext cx="7561080" cy="673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logo_progen"/>
          <p:cNvPicPr/>
          <p:nvPr/>
        </p:nvPicPr>
        <p:blipFill>
          <a:blip r:embed="rId3"/>
          <a:srcRect l="9371" t="12786" r="87553" b="0"/>
          <a:stretch/>
        </p:blipFill>
        <p:spPr>
          <a:xfrm>
            <a:off x="0" y="836640"/>
            <a:ext cx="9180360" cy="8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876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768B-A733-4CFE-8C75-E29E27CF9794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3"/>
          <p:cNvSpPr/>
          <p:nvPr/>
        </p:nvSpPr>
        <p:spPr>
          <a:xfrm>
            <a:off x="3419640" y="115920"/>
            <a:ext cx="568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essoria Técnica e Elaboraçã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jetos – Fábrica de Clínquer – Arcos/MG – OS 70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4" descr=""/>
          <p:cNvPicPr/>
          <p:nvPr/>
        </p:nvPicPr>
        <p:blipFill>
          <a:blip r:embed="rId4"/>
          <a:stretch/>
        </p:blipFill>
        <p:spPr>
          <a:xfrm>
            <a:off x="71280" y="58680"/>
            <a:ext cx="1548000" cy="7779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5" descr="111-free_logo_psd_file-01"/>
          <p:cNvPicPr/>
          <p:nvPr/>
        </p:nvPicPr>
        <p:blipFill>
          <a:blip r:embed="rId5"/>
          <a:stretch/>
        </p:blipFill>
        <p:spPr>
          <a:xfrm>
            <a:off x="298440" y="6093000"/>
            <a:ext cx="790560" cy="74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bcp.org.br/basico_sobre_cimento/fabricacao.s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B4CB-CE90-4FD8-932B-648280064993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24000" y="981000"/>
            <a:ext cx="849780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EDREIRA DA BOCA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SN / C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SESSORIA TÉCNICA E ELABORAÇÃO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70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VistaCSNCement_1"/>
          <p:cNvPicPr/>
          <p:nvPr/>
        </p:nvPicPr>
        <p:blipFill>
          <a:blip r:embed="rId1"/>
          <a:stretch/>
        </p:blipFill>
        <p:spPr>
          <a:xfrm>
            <a:off x="539640" y="2637000"/>
            <a:ext cx="8244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1C9E-8B81-4005-BEF2-D204B6D14478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981000"/>
            <a:ext cx="86407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ormatos da fábrica de clínquer foram elaborados pelo C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Chengdu Design Institute – CH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matos do Projeto Básico foram elaborados pela Lyon Engenh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cença ambiental para 20/setembro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80C0-1B5B-40BF-97A5-46AD763FDB46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cos Contratuais (Praz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ta de início do projeto: 20/08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ta de fim do projeto: 20/12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azo = 120 D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8EDC-3C52-4E0F-AAC7-FF2D42B26CC9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981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se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SE 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elaborar especificações técnicas para a execução do projeto civi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reendendo fundações, estruturas de concreto armada e metá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SE 2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ssessorar a empresa CDI – Chengdu Design Institute CHINA, encarregada do projeto estrutural, nos aspectos de parâmetros, normas, especificações típicas e critérios de projeto Civ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SE 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projeto eletromecânico: analisar e validar e comentar todos os desenhos gerados pela CDI nas disciplinas de engenharia mecânica, elétrica, automação e infra-estru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SE 4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rojetos complementares: projetos auxiliares para drenagem, comunicações, esgotos, ETE, rede de incêndio, paisagismo, rede de água potável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Espaço Reservado para Número de Slide 2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D8B6-CD46-42AD-99B1-EE5C931B61A9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7"/>
          <p:cNvSpPr/>
          <p:nvPr/>
        </p:nvSpPr>
        <p:spPr>
          <a:xfrm>
            <a:off x="0" y="981000"/>
            <a:ext cx="8640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dificação de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ASE 1: 7033-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ASE 2: 7033-0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ASE 3: 7033-0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ASE 4: 7033-0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A85C-8406-4FA3-837B-844E02992FC9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585" t="16352" r="37982" b="35630"/>
          <a:stretch/>
        </p:blipFill>
        <p:spPr>
          <a:xfrm>
            <a:off x="-1440" y="1916280"/>
            <a:ext cx="9145440" cy="4133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984320" y="105264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rutura Analític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01FB-993F-470C-B50F-B159761A063F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54880" y="3141720"/>
            <a:ext cx="25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rgan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2971800" y="841320"/>
            <a:ext cx="6172200" cy="5467320"/>
            <a:chOff x="2971800" y="841320"/>
            <a:chExt cx="6172200" cy="5467320"/>
          </a:xfrm>
        </p:grpSpPr>
        <p:sp>
          <p:nvSpPr>
            <p:cNvPr id="89" name="AutoShape 5"/>
            <p:cNvSpPr/>
            <p:nvPr/>
          </p:nvSpPr>
          <p:spPr>
            <a:xfrm>
              <a:off x="2971800" y="841320"/>
              <a:ext cx="6172200" cy="54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4000320" y="3469680"/>
              <a:ext cx="72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7"/>
            <p:cNvSpPr/>
            <p:nvPr/>
          </p:nvSpPr>
          <p:spPr>
            <a:xfrm flipH="1">
              <a:off x="7543800" y="2523600"/>
              <a:ext cx="9360" cy="22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8"/>
            <p:cNvSpPr/>
            <p:nvPr/>
          </p:nvSpPr>
          <p:spPr>
            <a:xfrm>
              <a:off x="5600520" y="3469680"/>
              <a:ext cx="0" cy="252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5257800" y="1051200"/>
              <a:ext cx="125712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r>
                <a:rPr b="1" i="1" lang="pt-BR" sz="800" spc="-1" strike="noStrike">
                  <a:solidFill>
                    <a:srgbClr val="000000"/>
                  </a:solidFill>
                  <a:latin typeface="Arial"/>
                </a:rPr>
                <a:t> Assessoria Técnica e Elaboração de Projetos – Fábrica de Clínqu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0"/>
            <p:cNvSpPr/>
            <p:nvPr/>
          </p:nvSpPr>
          <p:spPr>
            <a:xfrm>
              <a:off x="7086600" y="1892520"/>
              <a:ext cx="125712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CS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José Tarcísio Pia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Diretor Industri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1"/>
            <p:cNvSpPr/>
            <p:nvPr/>
          </p:nvSpPr>
          <p:spPr>
            <a:xfrm>
              <a:off x="3429000" y="1892520"/>
              <a:ext cx="125712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PROGE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Luiz Fernando Lim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Gerente de Contrat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2"/>
            <p:cNvSpPr/>
            <p:nvPr/>
          </p:nvSpPr>
          <p:spPr>
            <a:xfrm>
              <a:off x="3429000" y="2838960"/>
              <a:ext cx="125784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Ítalo Coutinh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Coordenador do Proje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3"/>
            <p:cNvSpPr/>
            <p:nvPr/>
          </p:nvSpPr>
          <p:spPr>
            <a:xfrm>
              <a:off x="4914720" y="2838960"/>
              <a:ext cx="125784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José Maria Port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Gerente de Engenhar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4"/>
            <p:cNvSpPr/>
            <p:nvPr/>
          </p:nvSpPr>
          <p:spPr>
            <a:xfrm>
              <a:off x="5371920" y="3574800"/>
              <a:ext cx="1257840" cy="31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Eng. Mecâni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5"/>
            <p:cNvSpPr/>
            <p:nvPr/>
          </p:nvSpPr>
          <p:spPr>
            <a:xfrm>
              <a:off x="5371920" y="3995280"/>
              <a:ext cx="1257840" cy="31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Eng. Elétri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6"/>
            <p:cNvSpPr/>
            <p:nvPr/>
          </p:nvSpPr>
          <p:spPr>
            <a:xfrm>
              <a:off x="5371920" y="4416120"/>
              <a:ext cx="1257840" cy="31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Eng. Civ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7"/>
            <p:cNvSpPr/>
            <p:nvPr/>
          </p:nvSpPr>
          <p:spPr>
            <a:xfrm>
              <a:off x="5371920" y="4836600"/>
              <a:ext cx="1257840" cy="31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Eng. Est. Metáli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8"/>
            <p:cNvSpPr/>
            <p:nvPr/>
          </p:nvSpPr>
          <p:spPr>
            <a:xfrm>
              <a:off x="5371920" y="5257080"/>
              <a:ext cx="1257840" cy="31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Eng. Tubulaçã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9"/>
            <p:cNvSpPr/>
            <p:nvPr/>
          </p:nvSpPr>
          <p:spPr>
            <a:xfrm>
              <a:off x="5371920" y="5677920"/>
              <a:ext cx="1257840" cy="31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Eng. Instrumentaçã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0"/>
            <p:cNvSpPr/>
            <p:nvPr/>
          </p:nvSpPr>
          <p:spPr>
            <a:xfrm>
              <a:off x="7429320" y="2838960"/>
              <a:ext cx="125784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Dalmo Corre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Coord. da Eng. Mecânica e Gerente do Proje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1"/>
            <p:cNvSpPr/>
            <p:nvPr/>
          </p:nvSpPr>
          <p:spPr>
            <a:xfrm>
              <a:off x="7429320" y="3574800"/>
              <a:ext cx="125784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Marc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Consultor de Eng. Elétrica e Instrumentaçã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2"/>
            <p:cNvSpPr/>
            <p:nvPr/>
          </p:nvSpPr>
          <p:spPr>
            <a:xfrm>
              <a:off x="7429320" y="4311000"/>
              <a:ext cx="125784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Apolôni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Consultor de Eng. Civ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3"/>
            <p:cNvSpPr/>
            <p:nvPr/>
          </p:nvSpPr>
          <p:spPr>
            <a:xfrm>
              <a:off x="4686120" y="2207880"/>
              <a:ext cx="240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4"/>
            <p:cNvSpPr/>
            <p:nvPr/>
          </p:nvSpPr>
          <p:spPr>
            <a:xfrm>
              <a:off x="5829120" y="1682280"/>
              <a:ext cx="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5"/>
            <p:cNvSpPr/>
            <p:nvPr/>
          </p:nvSpPr>
          <p:spPr>
            <a:xfrm>
              <a:off x="4000320" y="2523600"/>
              <a:ext cx="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6"/>
            <p:cNvSpPr/>
            <p:nvPr/>
          </p:nvSpPr>
          <p:spPr>
            <a:xfrm>
              <a:off x="4686120" y="31543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27" descr=""/>
            <p:cNvPicPr/>
            <p:nvPr/>
          </p:nvPicPr>
          <p:blipFill>
            <a:blip r:embed="rId1"/>
            <a:stretch/>
          </p:blipFill>
          <p:spPr>
            <a:xfrm>
              <a:off x="7200720" y="1366920"/>
              <a:ext cx="952560" cy="4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28" descr="LOGO-PROGEN-GERAL2"/>
            <p:cNvPicPr/>
            <p:nvPr/>
          </p:nvPicPr>
          <p:blipFill>
            <a:blip r:embed="rId2"/>
            <a:stretch/>
          </p:blipFill>
          <p:spPr>
            <a:xfrm>
              <a:off x="3543120" y="1261800"/>
              <a:ext cx="10285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29"/>
            <p:cNvSpPr/>
            <p:nvPr/>
          </p:nvSpPr>
          <p:spPr>
            <a:xfrm>
              <a:off x="3771720" y="3574800"/>
              <a:ext cx="1257840" cy="31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Eng. Planejamen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0"/>
            <p:cNvSpPr/>
            <p:nvPr/>
          </p:nvSpPr>
          <p:spPr>
            <a:xfrm>
              <a:off x="3771720" y="3995280"/>
              <a:ext cx="1257840" cy="31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Ivair Mauríci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Arquivo Técnic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6E0D-64FC-4BBF-8626-C27F5248B1C7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170028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G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OU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NOV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DEZ   / 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</a:rPr>
              <a:t>FASE 1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f2dad"/>
                </a:solidFill>
                <a:latin typeface="Arial"/>
              </a:rPr>
              <a:t>FASE 2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99"/>
                </a:solidFill>
                <a:latin typeface="Arial"/>
              </a:rPr>
              <a:t>FASE 3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cc00"/>
                </a:solidFill>
                <a:latin typeface="Arial"/>
              </a:rPr>
              <a:t>FASE 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1"/>
          <p:cNvSpPr/>
          <p:nvPr/>
        </p:nvSpPr>
        <p:spPr>
          <a:xfrm>
            <a:off x="1835280" y="155736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2"/>
          <p:cNvSpPr/>
          <p:nvPr/>
        </p:nvSpPr>
        <p:spPr>
          <a:xfrm>
            <a:off x="2843280" y="155736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23"/>
          <p:cNvSpPr/>
          <p:nvPr/>
        </p:nvSpPr>
        <p:spPr>
          <a:xfrm>
            <a:off x="3780000" y="155736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5"/>
          <p:cNvSpPr/>
          <p:nvPr/>
        </p:nvSpPr>
        <p:spPr>
          <a:xfrm>
            <a:off x="4788000" y="155736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8"/>
          <p:cNvSpPr/>
          <p:nvPr/>
        </p:nvSpPr>
        <p:spPr>
          <a:xfrm>
            <a:off x="5796000" y="155736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3063960" y="10526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ronograma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9"/>
          <p:cNvSpPr/>
          <p:nvPr/>
        </p:nvSpPr>
        <p:spPr>
          <a:xfrm>
            <a:off x="2124000" y="2637000"/>
            <a:ext cx="100800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9"/>
          <p:cNvSpPr/>
          <p:nvPr/>
        </p:nvSpPr>
        <p:spPr>
          <a:xfrm>
            <a:off x="2124000" y="3213000"/>
            <a:ext cx="4896000" cy="0"/>
          </a:xfrm>
          <a:prstGeom prst="line">
            <a:avLst/>
          </a:prstGeom>
          <a:ln w="7632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1"/>
          <p:cNvSpPr/>
          <p:nvPr/>
        </p:nvSpPr>
        <p:spPr>
          <a:xfrm>
            <a:off x="3059280" y="3789360"/>
            <a:ext cx="4321080" cy="0"/>
          </a:xfrm>
          <a:prstGeom prst="line">
            <a:avLst/>
          </a:prstGeom>
          <a:ln w="7632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2"/>
          <p:cNvSpPr/>
          <p:nvPr/>
        </p:nvSpPr>
        <p:spPr>
          <a:xfrm>
            <a:off x="2124000" y="4365720"/>
            <a:ext cx="525636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4233-3226-4F37-8845-9639457D14F2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57960" y="1195560"/>
            <a:ext cx="92473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atégia de Trabalh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) Prazo de 15 dias corridos para análise de cada pacote envi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Analisar desenhos de Civil que já chega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1º Pacote em 2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2º Pacote em 2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Elaborar Projetos Complementares da Dren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) Uso do sistema WEBTRANSFER para troca de arqu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) Dúvidas para CDI em Inglês, comentários para CSN em Portuguê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Conhecer MOM (Memorandum of Meeting) = acordos técnicos entre CSN e C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4A21-60EA-430D-9958-5B7D2953BFE3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tos da Á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25012007213"/>
          <p:cNvPicPr/>
          <p:nvPr/>
        </p:nvPicPr>
        <p:blipFill>
          <a:blip r:embed="rId1"/>
          <a:stretch/>
        </p:blipFill>
        <p:spPr>
          <a:xfrm>
            <a:off x="539640" y="1700280"/>
            <a:ext cx="3902040" cy="292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25012007214"/>
          <p:cNvPicPr/>
          <p:nvPr/>
        </p:nvPicPr>
        <p:blipFill>
          <a:blip r:embed="rId2"/>
          <a:stretch/>
        </p:blipFill>
        <p:spPr>
          <a:xfrm>
            <a:off x="4572000" y="1700280"/>
            <a:ext cx="39020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506D-0B31-4AD4-B955-67E89C22F5DE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tos da Á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25012007215"/>
          <p:cNvPicPr/>
          <p:nvPr/>
        </p:nvPicPr>
        <p:blipFill>
          <a:blip r:embed="rId1"/>
          <a:stretch/>
        </p:blipFill>
        <p:spPr>
          <a:xfrm>
            <a:off x="468360" y="2133720"/>
            <a:ext cx="3902040" cy="2925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25012007216"/>
          <p:cNvPicPr/>
          <p:nvPr/>
        </p:nvPicPr>
        <p:blipFill>
          <a:blip r:embed="rId2"/>
          <a:stretch/>
        </p:blipFill>
        <p:spPr>
          <a:xfrm>
            <a:off x="5796000" y="1197000"/>
            <a:ext cx="2925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768A-1DC1-4F75-96FD-7EF9B0873292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324000" y="326880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copo PRO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essoria Técnica e elaboração dos Projetos Civil e Eletromecânico da Fábrica de Clínqu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57040" y="1195560"/>
            <a:ext cx="824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alação de uma Fábrica de Clínquer com capacidad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000 t/d, na Pedreira da Bocaína, Município de Arcos/M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671720" y="530064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Localização: Arcos /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Pedreira da Boca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253B-3472-4632-9C2B-0E554032B866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tos da Á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25012007217"/>
          <p:cNvPicPr/>
          <p:nvPr/>
        </p:nvPicPr>
        <p:blipFill>
          <a:blip r:embed="rId1"/>
          <a:stretch/>
        </p:blipFill>
        <p:spPr>
          <a:xfrm>
            <a:off x="468360" y="1700280"/>
            <a:ext cx="3902040" cy="292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25012007218"/>
          <p:cNvPicPr/>
          <p:nvPr/>
        </p:nvPicPr>
        <p:blipFill>
          <a:blip r:embed="rId2"/>
          <a:stretch/>
        </p:blipFill>
        <p:spPr>
          <a:xfrm>
            <a:off x="4716360" y="1700280"/>
            <a:ext cx="39020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8074-54BA-4515-8FE4-CDE172FE131F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tos da Á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DSC05703"/>
          <p:cNvPicPr/>
          <p:nvPr/>
        </p:nvPicPr>
        <p:blipFill>
          <a:blip r:embed="rId1"/>
          <a:stretch/>
        </p:blipFill>
        <p:spPr>
          <a:xfrm>
            <a:off x="468360" y="1574640"/>
            <a:ext cx="4030560" cy="3022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DSC04846"/>
          <p:cNvPicPr/>
          <p:nvPr/>
        </p:nvPicPr>
        <p:blipFill>
          <a:blip r:embed="rId2"/>
          <a:stretch/>
        </p:blipFill>
        <p:spPr>
          <a:xfrm>
            <a:off x="4932360" y="1574640"/>
            <a:ext cx="3995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76C3-93F5-44F3-97FA-7788197F42B0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645080" y="4437000"/>
            <a:ext cx="43909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laborado em 27/08/2007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TALO COUTIN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GEN Belo Horizonte/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31) 3269-6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68AB-6FFD-431F-857D-2AA2AF5147B6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419640" y="4365720"/>
            <a:ext cx="5391000" cy="1342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324000" y="97776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ineração de Arcos, localizada na Pedreira da Bocaina, em Arcos, Minas Gerais, é responsável pelo suprimento de fundentes (calcário e dolomito) para a CSN, que são transportados até Volta Redonda pela Ferrovia Centro Atlântica. É uma das maiores reservas calcárias do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2005, a mina transferiu para a Usina Presidente Vargas 1,85 milhão de toneladas de calcário e dolomito. Os rejeitos do processo são depositados nas barragens de decantação e, posteriormente, vendidos como corretivos de so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apacidade de produção de Arcos é de 4 milhões de toneladas de fundentes. Assim como Casa de Pedra, a mineração de Arcos possui minério de excelente qualidade; seu calcário é considerado o melhor do Brasil para fins metalúrgic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DB06-CF51-4742-A527-C737C3C31159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>
            <a:hlinkClick r:id="rId1"/>
          </p:cNvPr>
          <p:cNvPicPr/>
          <p:nvPr/>
        </p:nvPicPr>
        <p:blipFill>
          <a:blip r:embed="rId2"/>
          <a:srcRect l="37799" t="38067" r="23229" b="9823"/>
          <a:stretch/>
        </p:blipFill>
        <p:spPr>
          <a:xfrm>
            <a:off x="1619280" y="1471680"/>
            <a:ext cx="597708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485080" y="981000"/>
            <a:ext cx="43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luxograma de Fabricação do 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8097-7A4A-4681-B6B5-1161BBB7F2ED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856560" y="1792440"/>
            <a:ext cx="1892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0" y="5046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minho para CSN C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guir pela BR-381 até Betim, entrar para BR-262, ir até Juatuba, entrar p/ MG-0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r até Formiga, no trevo antes seguir para Arcos, no trevo de Arcos seguir para CS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mpo Total da Viagem = 4 hs – 25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"/>
          <p:cNvPicPr/>
          <p:nvPr/>
        </p:nvPicPr>
        <p:blipFill>
          <a:blip r:embed="rId1"/>
          <a:srcRect l="12156" t="23752" r="2027" b="19824"/>
          <a:stretch/>
        </p:blipFill>
        <p:spPr>
          <a:xfrm>
            <a:off x="289080" y="1030320"/>
            <a:ext cx="8604000" cy="391140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 flipH="1">
            <a:off x="1332000" y="3355920"/>
            <a:ext cx="288720" cy="577800"/>
          </a:xfrm>
          <a:prstGeom prst="line">
            <a:avLst/>
          </a:prstGeom>
          <a:ln w="76320">
            <a:solidFill>
              <a:srgbClr val="20327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nk 12" descr=""/>
          <p:cNvPicPr/>
          <p:nvPr/>
        </p:nvPicPr>
        <p:blipFill>
          <a:blip r:embed="rId2"/>
          <a:stretch/>
        </p:blipFill>
        <p:spPr>
          <a:xfrm>
            <a:off x="1214280" y="1874880"/>
            <a:ext cx="68122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BE6A-A012-409A-9F96-178BE22146A4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52360" y="119556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ados do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95280" y="1700280"/>
            <a:ext cx="8323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ordenador do Projeto CSN: Dalmo Corr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-mail:  dalmo.correa@csn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fone: (37) 3359-77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ordenador do Projeto PROGEN: Ítalo Couti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-mail: italo.coutinho@progen.com.b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fone: (31) 3269-6200 / 8832-47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Número do Contrato: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107719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Ordem de Serviço PROGEN: 7033 (e suas Sub-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Faturamento: Valor Global para a Fase 1 e as fases 2,3 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verão ser medidas por base em EQUIVALENTE FORMATO A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1228-24CF-44B4-87E0-B786D2994EBD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50920" y="90180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dos do Contrato - Quantit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403280" y="1197000"/>
            <a:ext cx="6697800" cy="50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ase 1 – Especificações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1 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pecificações para Projet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0 A1 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ase 2 - ART Civil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1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. Civil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de 700 A1 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. Estr. Metá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ase 3 - Análise Eletromecânico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1 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. Mecânica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de 600 A1 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. Tubul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. Instrume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. Elét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ase 4 - Projetos Complementares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1 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édios Administrativo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de de Comunicaçã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renagem e Esgot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ptação de água industrial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de de Água Potável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rruamento e Pavimentaçã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isagismo e Iluminaçã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rreia Transportadora de Desvi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rre de Amostragem de Calcári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istema de Aspersão de Água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TE de petcoke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de de Incêndi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900000" y="1773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826920" y="2565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900000" y="36450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FC4C-FCD0-406B-84E0-764B1521712E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981000"/>
            <a:ext cx="864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clusões de Esc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fazem parte do escopo desta proposta os serviços ou fornecimentos que não estejam claramente explicitados na proposta técnica P0094-T07 como de responsabilidade da PRO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danças de Escopo deverão ter a ciência e autorização da CSN e do Coordenador do Contrato pela PRO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ço Reservado para Número de Slide 3"/>
          <p:cNvSpPr/>
          <p:nvPr/>
        </p:nvSpPr>
        <p:spPr>
          <a:xfrm>
            <a:off x="6877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A926-15DF-44FE-91A9-D87DB6439520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98100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drões a ado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esmos padrões utilizados para outros serviços da C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07:04:13Z</dcterms:created>
  <dc:creator>Italo Coutinho</dc:creator>
  <dc:description/>
  <dc:language>en-US</dc:language>
  <cp:lastModifiedBy>admin</cp:lastModifiedBy>
  <dcterms:modified xsi:type="dcterms:W3CDTF">2012-06-12T20:50:18Z</dcterms:modified>
  <cp:revision>145</cp:revision>
  <dc:subject/>
  <dc:title>Slide 1</dc:title>
</cp:coreProperties>
</file>