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9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2F7A-6EFD-4670-8E47-C6B5DBF19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044C-6CC8-4982-A6C1-5E4770048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525C-A478-4674-B376-1C2A14AC9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0DCA-D9B2-44DE-9518-13B4B873D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F206-57DF-4B3A-A6EE-30E4A2294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468B-2F17-4E11-A8CD-5A4E4D727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3950-13ED-424E-B1B1-031263274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0BFF-F8D3-4339-AF22-51A541024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5A49-D3AD-4E81-9239-32EF78CA8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F70B-159A-482B-9BE3-66EC2DF53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E4DC-3607-40B8-BF04-C5D8A0218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648A-BC51-4120-B3C2-6B303C2FF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logo_progen"/>
          <p:cNvPicPr/>
          <p:nvPr/>
        </p:nvPicPr>
        <p:blipFill>
          <a:blip r:embed="rId2"/>
          <a:srcRect l="9371" t="12786" r="87553" b="0"/>
          <a:stretch/>
        </p:blipFill>
        <p:spPr>
          <a:xfrm>
            <a:off x="0" y="6184800"/>
            <a:ext cx="9180360" cy="673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logo_progen"/>
          <p:cNvPicPr/>
          <p:nvPr/>
        </p:nvPicPr>
        <p:blipFill>
          <a:blip r:embed="rId3"/>
          <a:srcRect l="9371" t="12786" r="87553" b="0"/>
          <a:stretch/>
        </p:blipFill>
        <p:spPr>
          <a:xfrm>
            <a:off x="0" y="836640"/>
            <a:ext cx="9180360" cy="8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876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00D-9AD2-49DD-B8A4-86B5A1BBF85C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4211640" y="115920"/>
            <a:ext cx="4897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a Capacidade do Ter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arregamento Ferroviário – Lagoa da Ferru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111-free_logo_psd_file-01"/>
          <p:cNvPicPr/>
          <p:nvPr/>
        </p:nvPicPr>
        <p:blipFill>
          <a:blip r:embed="rId4"/>
          <a:stretch/>
        </p:blipFill>
        <p:spPr>
          <a:xfrm>
            <a:off x="380880" y="6203880"/>
            <a:ext cx="648000" cy="609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http://www.puntovital.cl/alimentacion/sana/nutricion/alpiste1.jpg"/>
          <p:cNvPicPr/>
          <p:nvPr/>
        </p:nvPicPr>
        <p:blipFill>
          <a:blip r:embed="rId5"/>
          <a:stretch/>
        </p:blipFill>
        <p:spPr>
          <a:xfrm>
            <a:off x="239760" y="19080"/>
            <a:ext cx="59544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466560" y="423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haroni"/>
                <a:ea typeface="Aharoni"/>
              </a:rPr>
              <a:t>Mineração de Ferro Alp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92D-8138-4CC6-A73B-9965C1E3E143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4000" y="981000"/>
            <a:ext cx="84978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NA DE Lagoa da Ferru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MENTO DA CAPACIDADE NO TERMINAL FERROVIÁRIO - Expansão – OS 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9600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A9D8-FF2A-49EC-871E-C90BB60D9B65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cos Contratuais (Praz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ta de início do Projeto: 01/02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ta de fim do Projeto: Agosto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PTUAL: 30 DIAS de p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ÁSICO: 75 DIAS de p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TIVO: 90 DIAS (INÍCIO A 60 DIAS APÓS O INÍCIO DO BÁSICO) de p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D7E2-710F-4E75-BBE3-7388866C0E1F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7926" t="13702" r="9391" b="22247"/>
          <a:stretch/>
        </p:blipFill>
        <p:spPr>
          <a:xfrm>
            <a:off x="142920" y="1347840"/>
            <a:ext cx="8893080" cy="4673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134880" y="9810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cos Contratuais (Praz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ço Reservado para Número de Slide 2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24B-C89C-4B73-B691-AFFE9E44E7AC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200" y="981000"/>
            <a:ext cx="6124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Conceptual Quantidade de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79280" y="1413000"/>
          <a:ext cx="835344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3534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235800" y="511812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vantamento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genheiro Mecânico Sênior 32 h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ista Mecânico Sênior 32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genheiro Eletricista Sênior 32 h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ista Eletricista Sênior 32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Espaço Reservado para Número de Slide 2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B019-E231-4B1E-9338-BF5BA8796B56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50920" y="981000"/>
            <a:ext cx="5464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Básico Quantidade de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50920" y="1484280"/>
          <a:ext cx="84978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497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35800" y="5013360"/>
            <a:ext cx="81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vantamento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genheiro Mecânico Sênior 32 h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genheiro Eletricista Sênior 32 h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ista Eletricista Sênior 32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genheiro Cicil Sênior 32 h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ista Civil Sênior 32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2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16E-11E4-4519-8B1D-AA3BEA727C47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0200" y="981000"/>
            <a:ext cx="593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Detalhado Quantidade de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50920" y="1413000"/>
          <a:ext cx="871380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713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5"/>
          <p:cNvSpPr/>
          <p:nvPr/>
        </p:nvSpPr>
        <p:spPr>
          <a:xfrm>
            <a:off x="233640" y="5249880"/>
            <a:ext cx="28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vantamento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Não 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A81-28AA-4614-962B-F3AA0A9E74A0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vistas na Fase de Detal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ostas de Fornecedores 13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nhos de Fornecedores 99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D1C-B3A3-4062-B698-66FC4E60D6A3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cumentos Solicitados à Mineração de Ferro Alp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TOPOGRAFIA/LEVANTAMENTO PLANIALTIMÉTRICO DE METRO EM  MET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SONDAGEM  DA ÁRE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ESPECIFICAÇÕES E NORMAS TÉCNICAS DA  Mineração de Ferro Alpis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CRITÉRIOS DE PROJETO DA Mineração de Ferro Alpiste PARA TODAS AS DSICIPLI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DESENHOS DE FUNDAÇÃO DOS PRÉDIOS E DRENAGENS EXISTENT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DESENHO DE CORTE DO TRANSPORTADOR EXISTENTE QUE CHEGA  ATÉ O PÁTI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7F89-C833-4851-921F-6BEAAF2D7FD4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5280" y="1413000"/>
            <a:ext cx="835344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) DESENHO DA EMPILHADEIR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8) GABARITO DE VAGÃO A UTILIZ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9) FORMATOS PADRÃO Mineração de Ferro Alp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0) ESTUDO DA  MALHA FERROVIÁRIA (PAZZIN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1) ESTUDO (CORTES) DAS TRANSFERÊNCIAS ENTRE  NOVO TRANSPORTADOR COM MOEGA, NOVA EMPILHADEIR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ILHADEIRA/RETOM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2) NORMAS Mineração de Ferro Alpiste PARA AS CONTRATADAS ( NORMAS DE SEGURANÇA, MODÊLOS PARA MEDIÇÃO MENSAL, RELATÓRIOS DE ACOMPANHAMENTO, ETC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3) CRONOGRAMA DE EXECUÇÃO – SOFTWARE PADRÃO NA Mineração de Ferro Alpi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2600" y="981000"/>
            <a:ext cx="798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cumentos Solicitados à Mineração de Ferro Alp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ço Reservado para Número de Slide 2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4949-C506-456E-B387-00E0296C28DF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Organization Chart 44"/>
          <p:cNvGrpSpPr/>
          <p:nvPr/>
        </p:nvGrpSpPr>
        <p:grpSpPr>
          <a:xfrm>
            <a:off x="457200" y="1197000"/>
            <a:ext cx="8228160" cy="4927320"/>
            <a:chOff x="457200" y="1197000"/>
            <a:chExt cx="8228160" cy="4927320"/>
          </a:xfrm>
        </p:grpSpPr>
        <p:cxnSp>
          <p:nvCxnSpPr>
            <p:cNvPr id="105" name="_s614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568920" y="99720"/>
              <a:ext cx="191160" cy="31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6149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6048720" y="619920"/>
              <a:ext cx="191160" cy="2102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6150"/>
            <p:cNvCxnSpPr>
              <a:stCxn id="111" idx="1"/>
              <a:endCxn id="112" idx="2"/>
            </p:cNvCxnSpPr>
            <p:nvPr/>
          </p:nvCxnSpPr>
          <p:spPr>
            <a:xfrm rot="10800000">
              <a:off x="907560" y="2716560"/>
              <a:ext cx="150840" cy="322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6151"/>
            <p:cNvCxnSpPr>
              <a:stCxn id="114" idx="1"/>
              <a:endCxn id="112" idx="2"/>
            </p:cNvCxnSpPr>
            <p:nvPr/>
          </p:nvCxnSpPr>
          <p:spPr>
            <a:xfrm rot="10800000">
              <a:off x="907560" y="2716560"/>
              <a:ext cx="150840" cy="265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6152"/>
            <p:cNvCxnSpPr>
              <a:stCxn id="116" idx="1"/>
              <a:endCxn id="112" idx="2"/>
            </p:cNvCxnSpPr>
            <p:nvPr/>
          </p:nvCxnSpPr>
          <p:spPr>
            <a:xfrm rot="10800000">
              <a:off x="907560" y="2716560"/>
              <a:ext cx="150840" cy="20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6153"/>
            <p:cNvCxnSpPr>
              <a:stCxn id="118" idx="1"/>
              <a:endCxn id="112" idx="2"/>
            </p:cNvCxnSpPr>
            <p:nvPr/>
          </p:nvCxnSpPr>
          <p:spPr>
            <a:xfrm rot="10800000">
              <a:off x="907560" y="2716560"/>
              <a:ext cx="150840" cy="151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6154"/>
            <p:cNvCxnSpPr>
              <a:stCxn id="120" idx="1"/>
              <a:endCxn id="112" idx="2"/>
            </p:cNvCxnSpPr>
            <p:nvPr/>
          </p:nvCxnSpPr>
          <p:spPr>
            <a:xfrm rot="10800000">
              <a:off x="907560" y="2716560"/>
              <a:ext cx="150840" cy="95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6155"/>
            <p:cNvCxnSpPr>
              <a:stCxn id="122" idx="1"/>
              <a:endCxn id="112" idx="2"/>
            </p:cNvCxnSpPr>
            <p:nvPr/>
          </p:nvCxnSpPr>
          <p:spPr>
            <a:xfrm rot="10800000">
              <a:off x="907560" y="2716560"/>
              <a:ext cx="150840" cy="3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6156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381040" y="1716120"/>
              <a:ext cx="207360" cy="1050480"/>
            </a:xfrm>
            <a:prstGeom prst="bentConnector3">
              <a:avLst>
                <a:gd name="adj1" fmla="val 473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6157"/>
            <p:cNvCxnSpPr>
              <a:stCxn id="127" idx="0"/>
              <a:endCxn id="125" idx="2"/>
            </p:cNvCxnSpPr>
            <p:nvPr/>
          </p:nvCxnSpPr>
          <p:spPr>
            <a:xfrm flipV="1">
              <a:off x="1959480" y="2138040"/>
              <a:ext cx="6120" cy="20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6158"/>
            <p:cNvCxnSpPr>
              <a:stCxn id="112" idx="0"/>
              <a:endCxn id="125" idx="2"/>
            </p:cNvCxnSpPr>
            <p:nvPr/>
          </p:nvCxnSpPr>
          <p:spPr>
            <a:xfrm flipH="1" flipV="1" rot="5400000">
              <a:off x="1330200" y="1715760"/>
              <a:ext cx="207360" cy="1051920"/>
            </a:xfrm>
            <a:prstGeom prst="bentConnector3">
              <a:avLst>
                <a:gd name="adj1" fmla="val 473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6159"/>
            <p:cNvCxnSpPr>
              <a:stCxn id="130" idx="0"/>
              <a:endCxn id="107" idx="2"/>
            </p:cNvCxnSpPr>
            <p:nvPr/>
          </p:nvCxnSpPr>
          <p:spPr>
            <a:xfrm flipV="1" rot="16200000">
              <a:off x="5523840" y="1144800"/>
              <a:ext cx="191160" cy="105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6160"/>
            <p:cNvCxnSpPr>
              <a:stCxn id="132" idx="0"/>
              <a:endCxn id="107" idx="2"/>
            </p:cNvCxnSpPr>
            <p:nvPr/>
          </p:nvCxnSpPr>
          <p:spPr>
            <a:xfrm flipV="1" rot="16200000">
              <a:off x="5004360" y="1664280"/>
              <a:ext cx="191160" cy="13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6161"/>
            <p:cNvCxnSpPr>
              <a:stCxn id="134" idx="0"/>
              <a:endCxn id="107" idx="2"/>
            </p:cNvCxnSpPr>
            <p:nvPr/>
          </p:nvCxnSpPr>
          <p:spPr>
            <a:xfrm flipH="1" flipV="1" rot="5400000">
              <a:off x="4479120" y="1151280"/>
              <a:ext cx="191160" cy="103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6162"/>
            <p:cNvCxnSpPr>
              <a:stCxn id="136" idx="0"/>
              <a:endCxn id="107" idx="2"/>
            </p:cNvCxnSpPr>
            <p:nvPr/>
          </p:nvCxnSpPr>
          <p:spPr>
            <a:xfrm flipH="1" flipV="1" rot="5400000">
              <a:off x="3956400" y="628560"/>
              <a:ext cx="191160" cy="2085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163"/>
            <p:cNvCxnSpPr>
              <a:stCxn id="125" idx="0"/>
              <a:endCxn id="107" idx="2"/>
            </p:cNvCxnSpPr>
            <p:nvPr/>
          </p:nvCxnSpPr>
          <p:spPr>
            <a:xfrm flipH="1" flipV="1" rot="5400000">
              <a:off x="3431520" y="103680"/>
              <a:ext cx="191160" cy="313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6164"/>
            <p:cNvSpPr/>
            <p:nvPr/>
          </p:nvSpPr>
          <p:spPr>
            <a:xfrm>
              <a:off x="4642920" y="1197000"/>
              <a:ext cx="9007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AUMENTO CAPACIDA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6165"/>
            <p:cNvSpPr/>
            <p:nvPr/>
          </p:nvSpPr>
          <p:spPr>
            <a:xfrm>
              <a:off x="1502640" y="1766520"/>
              <a:ext cx="9007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TC C/ MOE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166"/>
            <p:cNvSpPr/>
            <p:nvPr/>
          </p:nvSpPr>
          <p:spPr>
            <a:xfrm>
              <a:off x="2552760" y="1766520"/>
              <a:ext cx="9007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TC C/ SIZ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6167"/>
            <p:cNvSpPr/>
            <p:nvPr/>
          </p:nvSpPr>
          <p:spPr>
            <a:xfrm>
              <a:off x="3604320" y="1766520"/>
              <a:ext cx="9007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TC C/ EMPILHADEI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6168"/>
            <p:cNvSpPr/>
            <p:nvPr/>
          </p:nvSpPr>
          <p:spPr>
            <a:xfrm>
              <a:off x="4655880" y="1766520"/>
              <a:ext cx="8953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TC P/ O PRÉDIO DE CARREGAMENT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6169"/>
            <p:cNvSpPr/>
            <p:nvPr/>
          </p:nvSpPr>
          <p:spPr>
            <a:xfrm>
              <a:off x="5701320" y="1766520"/>
              <a:ext cx="89388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CARREGAMENTO DE VAGÕ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6170"/>
            <p:cNvSpPr/>
            <p:nvPr/>
          </p:nvSpPr>
          <p:spPr>
            <a:xfrm>
              <a:off x="457200" y="2337840"/>
              <a:ext cx="9007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CONCEIT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71"/>
            <p:cNvSpPr/>
            <p:nvPr/>
          </p:nvSpPr>
          <p:spPr>
            <a:xfrm>
              <a:off x="1508400" y="2337840"/>
              <a:ext cx="9007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6172"/>
            <p:cNvSpPr/>
            <p:nvPr/>
          </p:nvSpPr>
          <p:spPr>
            <a:xfrm>
              <a:off x="2559960" y="2337840"/>
              <a:ext cx="8881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EXECUTIV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6173"/>
            <p:cNvSpPr/>
            <p:nvPr/>
          </p:nvSpPr>
          <p:spPr>
            <a:xfrm>
              <a:off x="1058760" y="2907720"/>
              <a:ext cx="8881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174"/>
            <p:cNvSpPr/>
            <p:nvPr/>
          </p:nvSpPr>
          <p:spPr>
            <a:xfrm>
              <a:off x="1058760" y="3479040"/>
              <a:ext cx="8881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TUBULAÇÃ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175"/>
            <p:cNvSpPr/>
            <p:nvPr/>
          </p:nvSpPr>
          <p:spPr>
            <a:xfrm>
              <a:off x="1058760" y="4048920"/>
              <a:ext cx="888120" cy="37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MECÂN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176"/>
            <p:cNvSpPr/>
            <p:nvPr/>
          </p:nvSpPr>
          <p:spPr>
            <a:xfrm>
              <a:off x="1058760" y="4611240"/>
              <a:ext cx="8881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CIVI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177"/>
            <p:cNvSpPr/>
            <p:nvPr/>
          </p:nvSpPr>
          <p:spPr>
            <a:xfrm>
              <a:off x="1058760" y="5182920"/>
              <a:ext cx="888120" cy="379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ELÉTRI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178"/>
            <p:cNvSpPr/>
            <p:nvPr/>
          </p:nvSpPr>
          <p:spPr>
            <a:xfrm>
              <a:off x="1058760" y="5752440"/>
              <a:ext cx="893880" cy="37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INSTR./AU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6179"/>
            <p:cNvSpPr/>
            <p:nvPr/>
          </p:nvSpPr>
          <p:spPr>
            <a:xfrm>
              <a:off x="6745680" y="1766520"/>
              <a:ext cx="8953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ADUTO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6180"/>
            <p:cNvSpPr/>
            <p:nvPr/>
          </p:nvSpPr>
          <p:spPr>
            <a:xfrm>
              <a:off x="7790040" y="1766520"/>
              <a:ext cx="8953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INFRA E SUPERESTRUTURA FERROVIÁR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80"/>
          <p:cNvSpPr/>
          <p:nvPr/>
        </p:nvSpPr>
        <p:spPr>
          <a:xfrm>
            <a:off x="2917800" y="333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P (propo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744-21CB-41AA-9638-5B57E85CBD0E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parar e Emitir Lista de Documentos (conforme o vend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o; Elétrica; Instrumentação; Mecân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ubulação;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Cronograma no Software de Gerenciamento de Projetos MS -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449A-B2EB-49E2-9022-D0278DA4EB45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324000" y="300816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copo COMPANY NAME: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rojetos Conceptual, Básico e Executivo para o Aumento de Capacidade do Terminal Ferroviário da Mina de Feij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EB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ILH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REG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7400" y="1195560"/>
            <a:ext cx="461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Atual : 10 MT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Almejad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8 MT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012920" y="530064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ocalização: Moema /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EF81-7ED7-4C55-90BD-A2053671CD64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 Pizza (Especialista em Projeto Ferrovi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ato: tel. 1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 Automação Industrial (Programação P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ato: Sr. Eletron Flores . Tel. 4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4160-53FF-4D43-A66E-B84AE5504C77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Foto_122906_001"/>
          <p:cNvPicPr/>
          <p:nvPr/>
        </p:nvPicPr>
        <p:blipFill>
          <a:blip r:embed="rId1"/>
          <a:stretch/>
        </p:blipFill>
        <p:spPr>
          <a:xfrm>
            <a:off x="1763640" y="1376280"/>
            <a:ext cx="62881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DFA-1458-449D-928C-72592D26C4FC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Foto_122906_002"/>
          <p:cNvPicPr/>
          <p:nvPr/>
        </p:nvPicPr>
        <p:blipFill>
          <a:blip r:embed="rId1"/>
          <a:stretch/>
        </p:blipFill>
        <p:spPr>
          <a:xfrm>
            <a:off x="1979640" y="1341360"/>
            <a:ext cx="63594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2F5-2F86-45EF-AB0C-8960FE27E6F5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oto_122906_003"/>
          <p:cNvPicPr/>
          <p:nvPr/>
        </p:nvPicPr>
        <p:blipFill>
          <a:blip r:embed="rId1"/>
          <a:stretch/>
        </p:blipFill>
        <p:spPr>
          <a:xfrm>
            <a:off x="2124000" y="1484280"/>
            <a:ext cx="6070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ECA-D783-4239-85F6-95684C7F4D81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492360" y="4437000"/>
            <a:ext cx="5543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aborado em 08/02/2004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OSÉ DAS COU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PH CHICKEN – Eng.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NY NAME Belo Horizonte/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31) 4312-1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0A4-45D5-4C65-A2AC-8E3621E679FF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56560" y="1792440"/>
            <a:ext cx="1892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580000" y="16477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inho par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 Lagoa da Ferru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r pela saída par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-381), depois de Betim BR-262 até trevo de Moema/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h30min trajeto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652320" y="1579680"/>
            <a:ext cx="4365720" cy="407340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 flipH="1">
            <a:off x="3634920" y="2421000"/>
            <a:ext cx="289080" cy="577800"/>
          </a:xfrm>
          <a:prstGeom prst="line">
            <a:avLst/>
          </a:prstGeom>
          <a:ln w="76320">
            <a:solidFill>
              <a:srgbClr val="2032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E40-2177-497A-8303-A6A5C50EE1B4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2360" y="11955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 do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61640" y="2492280"/>
            <a:ext cx="7498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jeto Mineração de Ferro Alpiste: Hugo B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jeto COMPANY NAME: José das Cou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formatos vendidos: 431 A1 Equi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vantamento de Campo: 272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78D-0C9D-4E52-B728-D999071571B2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52360" y="11955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 do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00000" y="1790640"/>
          <a:ext cx="676764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90640"/>
                    <a:ext cx="67676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6"/>
          <p:cNvSpPr/>
          <p:nvPr/>
        </p:nvSpPr>
        <p:spPr>
          <a:xfrm>
            <a:off x="5651640" y="551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TAL: 431 A1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2FEB-CEBC-47C5-B790-1E48F63E5685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52360" y="11955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 do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7"/>
          <p:cNvGraphicFramePr/>
          <p:nvPr/>
        </p:nvGraphicFramePr>
        <p:xfrm>
          <a:off x="755640" y="1844640"/>
          <a:ext cx="720108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2010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8"/>
          <p:cNvSpPr/>
          <p:nvPr/>
        </p:nvSpPr>
        <p:spPr>
          <a:xfrm>
            <a:off x="5508720" y="5516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TAL: 12.617 H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9AB3-AA6E-4430-9A03-0739E5A22393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395280" y="1052640"/>
            <a:ext cx="8497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alações /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 Recebimento, descarga e empilhamento por caminhões desde a moega até o pátio por empilhadeira viaj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NOMINAL: 2.0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PROJETO: 2.6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Recuperação Mina Jangada e Mina Feijão, com retomadora de rodas de caçamba (SIZER), a ser reform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NOMINAL: 3.0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PROJETO: 3.6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4F56-4697-4567-A8FD-9FEAA52C4C7B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11280" y="1989000"/>
            <a:ext cx="712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Carregamento de vagões, com balança integr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NOMINAL: 3.0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PROJETO: 3.600 t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Superestrutura ferrovi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Captação, adução, reservação e distribuição de água de incêndio e de serviç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24000" y="1052640"/>
            <a:ext cx="41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alações /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654-D5F0-4693-9246-D9BBEF5F410B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mite de Ba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ega na nova Praça até o Prédio de Carregamento, localizado na  Linha Férrea externa da Pera do Pátio de Carreg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24000" y="2565360"/>
            <a:ext cx="86407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clusões de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rviços de levantamento topográfico e planialtimétr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rviços de sondag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Memorial descritivo de montagem de tubulação, elétrica e mecân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Estudos de impactos ambient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rojeto de paisagis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hop-drawings de mecânica e estruturas metál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“As-built”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hos exis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sométricos de tubul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visões de desenhos exis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7:04:13Z</dcterms:created>
  <dc:creator>Italo Coutinho</dc:creator>
  <dc:description/>
  <dc:language>en-US</dc:language>
  <cp:lastModifiedBy>itacou</cp:lastModifiedBy>
  <dcterms:modified xsi:type="dcterms:W3CDTF">2012-07-05T19:22:28Z</dcterms:modified>
  <cp:revision>102</cp:revision>
  <dc:subject/>
  <dc:title>Slide 1</dc:title>
</cp:coreProperties>
</file>